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2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1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explode.wav" ContentType="audio/x-wav"/>
  <Override PartName="/ppt/media/image21.jpeg" ContentType="image/jpeg"/>
  <Override PartName="/ppt/media/image20.png" ContentType="image/png"/>
  <Override PartName="/ppt/media/image3.png" ContentType="image/png"/>
  <Override PartName="/ppt/media/image19.wmf" ContentType="image/x-wmf"/>
  <Override PartName="/ppt/media/image18.wmf" ContentType="image/x-wmf"/>
  <Override PartName="/ppt/media/push.wav" ContentType="audio/x-wav"/>
  <Override PartName="/ppt/media/image14.gif" ContentType="image/gif"/>
  <Override PartName="/ppt/media/image16.jpeg" ContentType="image/jpeg"/>
  <Override PartName="/ppt/media/chimes.wav" ContentType="audio/x-wav"/>
  <Override PartName="/ppt/media/image2.png" ContentType="image/png"/>
  <Override PartName="/ppt/media/image22.gif" ContentType="image/gif"/>
  <Override PartName="/ppt/media/image4.jpeg" ContentType="image/jpeg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notesMasterIdLst>
    <p:notesMasterId r:id="rId25"/>
  </p:notesMasterIdLst>
  <p:sldIdLst>
    <p:sldId id="256" r:id="rId26"/>
    <p:sldId id="257" r:id="rId27"/>
    <p:sldId id="258" r:id="rId28"/>
    <p:sldId id="25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notesMaster" Target="notesMasters/notesMaster1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 type="dt" idx="7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 type="ftr" idx="7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6"/>
          <p:cNvSpPr>
            <a:spLocks noGrp="1"/>
          </p:cNvSpPr>
          <p:nvPr>
            <p:ph type="sldNum" idx="7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8F5C8-7ACC-4065-9D80-995FFD2C38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1DB7F-3D30-4B4F-BBE9-D2456116F2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42741-CC25-403A-92AC-ADCE392FC7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DA76-6A65-47C5-86DC-B444725E1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6F9A-067F-4B9D-889C-470CF9B89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E0AF84-438B-4264-B83F-25BC278CE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36D30A-6F69-45C4-AFE0-615B3FE6C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F981F3-2127-4166-B651-A17FB7BA3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737B96-4A14-4BDD-844C-CD213A5C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A93112-5304-4F6E-8716-DC3809BD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1D42FC-6420-4558-964E-AACE00BE8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CBCF8F-DADA-4AA9-BC4E-B8790F14A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5A15E5-A400-4687-BA34-940F14568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9E2700-B9B4-4DE9-B369-5C200C63B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BEA5EA-3261-467E-AE94-A8A9E1337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AB38-AA2B-4DB5-86E1-81442DBB7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0B9CCF-2649-4989-BB3B-744C3B9DF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BEECBF-2725-458C-ADB8-58EFA5080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F252DE-BAB9-4887-9DB6-E92F323F7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829B93-8072-47E9-B3DE-274367660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E11E04-2945-40D3-B1F8-F81DDED8E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3D707D-34D0-49EE-94E0-0A3DF073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F82B1D-07BD-4EE3-8DC1-C1CEC171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34A6E2-FDFE-42C9-B5F7-15085435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FD918A-9939-44E3-9051-D3A8CBE70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C13F88-2709-4650-8E6C-4696EE4C0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9C03-9982-4FC0-95A1-62A0D03B3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3DBADB-82C4-4064-844A-BF3BB79BF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E38B8E-0C36-4564-BBCA-FF831E30F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97EA7D-F1E8-4C6C-B176-1C8045467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AF1CF7-F5F0-418B-B9FE-32C9461F2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C44506-3E75-4CE6-8789-056C3CB76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DD83C9-25BD-4D89-AC63-8AC07C54E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E325F6-F86A-4EA6-B4A6-890171C87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FC2ED5-F4AF-431F-81DB-B18627CA2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C320EB-E89F-4102-91D3-9D8F8B473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1F2FCA-E5E9-4812-B398-DB3E423E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FB25A-8295-4712-AF76-91D05E7C6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047B1C-4131-4CE4-8719-D76AF57DD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698679-9CE5-4FC2-A2B7-3534FE9A5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5287DB-B92F-4B87-9379-B1F68D171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476696-CD75-4649-80A5-A644E2707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732650-60A5-4AF2-996B-6AAB20422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A4345E-1F9A-41EC-9B5F-B74E15ECE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6A3B3D-A565-4074-9A12-2FD22CBE6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A2C1C8-957B-4AA5-9E3A-118D321D8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F94623-03D0-4E4D-8D3E-B5375B940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D63AB9-6244-4C52-9937-5A4735BA3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34B7D-FF0C-49CC-8AD4-8BB75027C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0AFE97-D2CD-4269-8075-59671DB95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BD59AA-ABDF-4882-8C9C-F1ABFC86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710781-D869-43DA-9B78-2E5259805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762800-643E-4DFE-8ABE-15250CEA4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9236AF-2837-42E0-A9C8-D762F0FBB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166480-FA26-4EDF-824C-2C2744384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AF48D4-425C-4EB8-961C-80A8C8EBD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A60490-39ED-4923-A99D-7FE628186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CC4194-36E7-48CD-A473-61DCF8A39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6D6B12-D3D6-4B16-B6DA-73F5F533D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569A1-F492-464A-AD08-B6EA4A870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821F63-AD52-41BE-BB08-4C2F08752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6ED522-73FC-43D5-AACE-D37942ED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B092EF-7945-4A68-A8F4-806FBE2D2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9091B7-E58B-4A90-B3AF-569C1925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FDBF7D-AFC2-438C-BAA0-F1EA51B5E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75C627-3DAC-4F5A-9C81-B6493008A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F2BDA6-1257-42D4-8A73-1C2000122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23AEBC-C002-4813-B8FE-3CEBE0DA4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02BED3-5D6A-45CC-94FB-FB1BD2599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EEA2A9-7963-4094-906B-CC350875F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E8081-584A-4E82-B0FB-6C19B2BCF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56F38C-DA49-4522-A516-12D305D58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AC8C4D-DFE3-4E15-AE8D-8BF11560A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B9F3E8-71C6-4CE1-821E-C57DAAC57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61116A-62A5-4BE4-AA7C-D8DADE10C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3E8BCD-8A7B-48D1-9626-10E01309C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FF6A87-97D5-4710-B30E-B0930316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2CACC9-24EA-40C5-9431-F9A8BB53E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B19BA2-F5F1-4F09-8DAA-E8E5E8268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7F191C-9F6D-426A-8D0C-74CDA6022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373D63-F379-41C8-8DBD-2CB371A8C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1769D-EB1D-4F61-9AEA-E66750712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037F01-482F-4ABA-ABB4-4915B40B3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D2B8BF-20C6-4037-9883-8E65077E6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382C45-0FD2-4B0D-9FD8-C9137034E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A4A7D3-34E1-43DE-B938-59C0DA92F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75C145-E5FB-48F6-952F-780FE9853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BCE80B-FDDF-400F-86D4-FE290F27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69EA51-9256-408A-BDC7-6817A95F3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DFB32F-7F3A-41CE-B5E5-FAD1D3E66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8F32C1-A927-4C28-B92F-FA982678D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28CF0D-3FA6-4697-A25A-0825DEE9C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E171B-990D-48EC-B04D-7930EA913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288CEC-5348-400F-8929-41C18FB30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13CB1F-AE8D-4DE2-9034-CE144B4F5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B4A252-3338-446D-B4AC-9A9B60E93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23131C-4F92-454F-8108-6AE39552D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4AD229-6A34-4E6A-9520-3C22FE3D8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33C001-F855-4012-82A6-FC7B179D3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050B46-BAEA-40F5-B5C8-FA52E5D1F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4F0864-FA73-477F-BDBB-D80E20A18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068BA4-73DB-4821-AAA1-37C28AB24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F5F81C-0666-4516-877F-1372A07E3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DA0D6-F088-4E7E-A0CE-689BA345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092AEE-4C63-40C9-9EA6-DB5D8901A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054767-661A-45A1-A12B-0AB34B875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A41CA8-DB93-4D70-A8C5-4569E8EDE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5E6945-F9E4-4E41-8035-4D96E610A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CD07CB-21E7-472D-9245-3FD6218D3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78AB4B-F90E-46A4-829F-89D36C2EB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8DAA22-CE32-4199-94BF-36DBD41F4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EF3B87-3230-46AB-8BE6-634E3CC68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A414F0-DA7C-41AD-8EBA-4FC39F779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4465A9-0FE4-4FE7-9B60-842B4F7D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37B2-5CC6-4F9C-B590-A9FC0507C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0E407-5B10-4369-A47B-346BA027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9D2EFD-109E-4061-9B03-1B3853A3E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7EF344-37CD-44E9-9531-FE20E6EF2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F7816A-6C47-4EEC-8319-9FE341D5F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E00801-C7AD-4DC3-AA1E-CB62FCB6F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5BDEC2-5B44-47E6-80E2-600E8302A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665F43-340D-4C06-8CA8-9AB8B0691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012E0D-E30F-4D90-B520-31C2DC0AE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147276-BD62-4ABA-A5D1-CEB6B294E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E3E8C0-4FD5-43F4-941E-36445C91A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6E3F62-47FA-400A-9E89-2F785A8AD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1203E-48E9-47D6-BF27-EAB48C1BB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80F0D6-06D7-4F17-A1CA-9D2715CEE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88869B-07DB-4B6E-BCC7-DE876BE3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B81690-1DAD-4858-A1C7-5C13E2213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786719-E86B-4752-987B-AAC67B6BD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D22171-3F12-4BB8-97E5-47907E28F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D1A1DC-2132-4B9F-9BD4-4F720F4E8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890D5D-7A22-44BE-A6EA-23C30E084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5C3737-44AC-4C41-916F-DD7BB3139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A67593-34F9-4277-953F-A690079E5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363CF1-A4B8-4DD2-AFEE-4BF2E067B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59A35-D7D3-4550-826D-0830E53C6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E92000-6417-49D6-85D9-91B2F1FFE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6F36CF-9C7B-4A3D-999A-89B2DD452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24AB1A-D2EB-446E-A0FF-42180E8FE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1F2C7F-67DA-4874-87B0-E38D3FD0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D89C96-0FE1-4B0C-BE63-5B4FBF8D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113026-7559-4206-B6D8-A80984C0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1067AE-EEF2-47BA-A52D-823C2B425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D3D3FB-6BE5-4A94-9EBD-80B365D9A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CB8771-DF85-417C-BE05-5BA454923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65BB7F7-36CA-472A-9306-E909A99F4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A45E4-06C2-4E7B-B45F-DE9DB359D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BBC55B6-1BB9-48F3-B57A-7FA7C5C56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61B2865-7FF3-4CFA-9575-3C6962AA8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95FD5E9-83B2-483D-BF4E-82041FAB5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F54BE93-D7D8-4F19-8473-140F406CF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DCD5F3F-E045-45E4-BDFD-14AA66469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84291D9-923A-4E02-BC48-47333AB6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E67B0D1-BC9F-4CD3-B667-39173D10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270EE84-D4AB-40C5-85DA-C26521359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CDFE608-0479-4965-911C-632CDA7AD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508A8EE-08F8-40F0-AFFD-80724C6F2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C82C6-0048-4C0D-BCE8-848F332A7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0DF0D1E-3220-49C3-A6F0-94F45A48F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83A3BDC1-2516-4580-A8F3-62B041FDC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289E25E0-43AE-472E-9CE9-D2CCDA5F4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DDCE83AB-D43D-4CAC-811C-6363E9ADC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3FE87435-20F6-437F-9FF3-96EFA25D4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54B852F3-2C4C-4D63-AE9F-53F583E0D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AFFD5595-DE54-4A97-B1A1-E89799C31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42A4134A-872C-4874-9254-5193F04B2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D2B33B08-4C6A-47A4-8C9F-F0B4B49E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6E8CE9A3-C84A-46E4-A78C-569B2507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33F79-B1B3-4904-BA7E-08F683464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A2B0D96-1226-4CC2-A109-340C91F28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65C90C05-EED0-4DDB-B0E7-C40D057DA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FA02636-EF56-443E-9FD6-F79DD05AC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6207E2E-97E5-4C8D-B3FE-A78956B4E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09D3907-5284-40C0-BD55-FD127E4B0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3B4BE8B-11B4-42A6-A437-F3144577D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B80ED1B-E7A7-45E1-8482-FC3F99946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352E970-0AD4-4B49-B1B9-6470A95BB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934D730-2982-4A5E-84D8-5F163B5E7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F9F41CA-28E5-4A17-9D6D-D6D199AEE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058D0-9D1C-4B2D-83CB-BCCB74E60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17C7570-FD07-42EF-9EEA-9ABA4D624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3681815-6D82-495D-AA71-57BD95F2E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D299B0D-A139-4F4F-9B3F-FF054AB72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2997082-8283-474D-A1C3-2C70D3F6C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8E2AF98-0D55-4C0A-9294-41A5CD1D6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5DA092B5-D0CE-4EEF-8C67-91F76C7C4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6A216734-AA44-420E-B074-B04EEEA15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5299795B-DA6B-49A1-BC20-F7EBB26B6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53938F50-C0AA-45B1-9675-705B67A2A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941165EC-267A-45A7-98BB-3E73283BE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9A0BB-671D-4A8D-B445-5C6B0E96A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83C066CB-A635-4152-9E82-79879E1F3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95DB3799-A3F9-4E11-9D76-016CA6348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5B29C6D1-3B77-4DBF-9ACC-49EB0AF1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5F1617E8-FE28-402D-8B0E-112374FD8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676ADBA0-101A-4C68-9895-8489551FD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3CB85A46-F3D1-4293-9598-DA006F5FA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2B30501E-0F2C-4DB1-AA99-C70336CC0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CB11A-46D3-4DB8-9E02-504A3D330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C6F4D-7ABB-4B70-ABD5-C5BC9779A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4181-BDEB-496F-93FB-11ED8EB28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D5AC4-E9FA-4298-BB14-B0F89856E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DD340-18E5-4580-A2B5-2DE9FDAE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EA878-784A-4854-ACBD-942E0C13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C3ED2-6FEB-47E8-ADAA-0C2610C9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52D1A-0174-4649-A32A-6B18D2BBF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544E5-8814-4FB5-B952-25C0E8A85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462F9-6818-49C2-8ACA-291E8F88C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A71FB-3B50-4740-B07A-9E4BB7D6B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2E1A7-CE00-4D54-9DFD-1822C6F99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19797-21A1-403A-A732-25F216A73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0626-ADB2-458E-9F62-73FC898EF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897C9-9E16-48B3-8E96-F41BF6360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E5A5B-C99A-4FF8-BED2-F6C40FDFB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1A4DC-7DBC-4DEB-988D-F0C2276D5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A9E89-BB3E-41EF-B378-8554924C3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586F8-8A67-4020-B7BF-3E7B869BB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00D49-E912-4823-82E5-2FEDEE0E5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A64B6-D2E6-483F-8C11-C618F56DC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BB835-2EC3-4FEC-A3B9-6E9AD65DC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8DA05-0ED9-40AA-B047-FA18BC833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22D0FA-C652-4785-80FA-854976BD7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7951-AF47-4CC3-B2D9-60743D604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7BA270-6B70-40D1-8B29-1F0C5A86C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68A07C-5139-49C3-AADC-0FFCB7442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7E159-C636-4E8D-A4B4-C3E76C8BA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4674B8-609E-4251-A2D4-EF2195D09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3FC7E7-3AB7-4CAF-B363-506BF431A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F10AC-AADB-4594-8BE4-5C03D7A6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B24CD9-CFAD-4086-8265-4C6E11EE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2428C8-82BB-4CB5-8D9E-3C05EE4D0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5CAB3B-81BB-4BCA-B8BF-5659B4EEB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67F21A-F119-4BA8-A057-F96791CC4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4603-CAAB-4DCD-ADBE-C022B1FE0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F42EFA-C2BB-4CD9-9F88-4414CF949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9E231E-F592-44EE-B9B8-4F7F5F1D2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C1149E-0E60-4A0B-A063-3CBD8C27F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41BFEA-4ABA-4033-A438-D48110B05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5FDBD5-A03F-4E04-80CC-2A5736CE7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307865-60BE-4B8E-802E-6D8AADAD4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171080-A15D-445F-8EFA-0AD6E1A97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7E1746-0EDD-4B7B-9820-4BD09B65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E213B2-4DA7-47A3-8F38-C63CA638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D5D08A-6713-4ADD-9A9A-884D6BA0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3FFC-9C71-45DB-89C2-05C2A23E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6C0C01-B5C0-401C-9049-6DF484089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2C779E-D8D7-4AE6-B4B6-2082E54F3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988555-2C9E-4A0F-954B-1E89F2E37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026D2E-06D5-4592-84BA-6324B60F0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295AAC-AD3D-4C8F-BC76-1AAF36B04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0207EF-9B85-4E30-9452-CEAA08645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B08BB2-D748-44A9-B325-D7AAD4566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7ACD27-58F7-4032-A346-41A6C9724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BF495C-24B2-423F-A2DD-A5B53980B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2990E1-2D28-4F8F-AA1A-8F18A6A3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BB84-6E13-47F3-8A91-B44786AA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65E5E7-AADF-46ED-ACB7-C1F91B3F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40BF27-5CD7-4ACE-B357-C189C177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9C64A8-B62A-4683-9EC6-2905C4B88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F41FEB-33E9-49ED-AA78-66BC3DF30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C5E5EF-D107-4525-8680-C95D6030A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94D27D-DD01-4B96-8563-73DDFBE69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1485C9-EADA-48E9-975C-08F460BFF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7E9F59-2491-4AEF-A69E-6CE0A4ADB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E555A9-A6C4-4320-821B-BD35CF87C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4C588F-8F05-49B9-A56A-C06DECC89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7EB6-6CC7-4EA8-8A3F-F018D78D2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8F4B03-99BC-46FF-9F7C-F47FE80BD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7CB405-89B3-49AB-ABD0-DE8009E93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55FBBA-3787-4707-837D-AFC042BB2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B35F77-D7AB-4EE7-9970-829CADE7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AD4660-2B92-4ABA-8EC6-2999C2737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1450BD-5478-4C9E-AC93-AAD96FE93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361BE0-FE7E-4353-BA35-C4C28E9A3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B8A822-B4BA-486A-891D-C095DDF59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51D19E-B976-4688-9259-EA4CFF98A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4CFD3A-0C5F-4B73-8DD7-09E3D6193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F10F7-2145-4697-BEF7-6C3C168A4F6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18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419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01c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09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8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1b4b7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1b4b7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9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0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1b4b7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8411E-2C2C-40A3-9859-2E76F3F40EC6}" type="slidenum">
              <a:rPr b="0" lang="en-US" sz="1000" spc="-1" strike="noStrike">
                <a:solidFill>
                  <a:srgbClr val="a1b4b7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01c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09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1b4b7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1b4b7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1b4b7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2D49E-B191-4C2F-86B3-2B0BD5DAE7EA}" type="slidenum">
              <a:rPr b="0" lang="en-US" sz="1000" spc="-1" strike="noStrike">
                <a:solidFill>
                  <a:srgbClr val="a1b4b7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5" name="Round Single Corner Rectangle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605" h="4343400">
                <a:moveTo>
                  <a:pt x="0" y="0"/>
                </a:moveTo>
                <a:lnTo>
                  <a:pt x="2260725" y="0"/>
                </a:lnTo>
                <a:lnTo>
                  <a:pt x="2260725" y="0"/>
                </a:lnTo>
                <a:arcTo wR="63880" hR="63880" stAng="-5400000" swAng="5400000"/>
                <a:lnTo>
                  <a:pt x="2324605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01c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09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dt" idx="3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1b4b7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1b4b7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ftr" idx="3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sldNum" idx="3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1b4b7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632DD-A055-4F63-AD49-EE372F591631}" type="slidenum">
              <a:rPr b="0" lang="en-US" sz="1000" spc="-1" strike="noStrike">
                <a:solidFill>
                  <a:srgbClr val="a1b4b7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8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0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1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2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3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4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5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dt" idx="3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ftr" idx="3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sldNum" idx="39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CEE65-786B-49A4-B4E9-35A352630FF6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8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9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0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1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2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3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4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5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 type="dt" idx="40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 type="ftr" idx="41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 type="sldNum" idx="42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A0BD7-B860-4ADD-88DD-6A8DDB0236F9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8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9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0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1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2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3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4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5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6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7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ftr" idx="4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dt" idx="4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45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77083-2F1B-4349-9B07-224FBB1ACB5F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0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1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2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3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4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5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6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7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8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04617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dt" idx="46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ftr" idx="47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 type="sldNum" idx="48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FF8AA-820D-4C03-BB5E-903FD6E4DAF4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04617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1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2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3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4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5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6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7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8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9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0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dt" idx="4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ftr" idx="50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sldNum" idx="51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CEEFD-8882-4643-9619-3EEE413D2FB0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 type="dt" idx="5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 type="ftr" idx="5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 type="sldNum" idx="54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CA907-E03F-4D36-9F28-EFCBC5A49FAA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3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5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6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7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Calibri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dt" idx="5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 type="ftr" idx="5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 type="sldNum" idx="57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38F9E-6049-41FC-A2BE-B24D685014F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A80AB-7425-402F-9704-C1250E8D8889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0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1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2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3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4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5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6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7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8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9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Calibri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 type="sldNum" idx="5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86C80-ECA8-4678-BB24-C44BE1D0EB7A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 type="dt" idx="5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 type="ftr" idx="60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2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3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4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5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6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7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8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9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0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1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 type="sldNum" idx="61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89D26-CA59-49EF-A875-44E69839ACE7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 type="dt" idx="62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 type="ftr" idx="63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4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5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6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7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8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9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0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1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Calibri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 type="dt" idx="6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 type="ftr" idx="6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 type="sldNum" idx="66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3D644-B9E6-4D9E-A7FA-4EAD0AE6C525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4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5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7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8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9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0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1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Calibri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 type="sldNum" idx="67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05DF9-3109-4568-A2E4-346FFCB270E8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 type="dt" idx="68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PlaceHolder 5"/>
          <p:cNvSpPr>
            <a:spLocks noGrp="1"/>
          </p:cNvSpPr>
          <p:nvPr>
            <p:ph type="ftr" idx="69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92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93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01c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09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1b4b7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1b4b7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1b4b7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C59EE-B91C-4650-A140-4933BD215862}" type="slidenum">
              <a:rPr b="0" lang="en-US" sz="1000" spc="-1" strike="noStrike">
                <a:solidFill>
                  <a:srgbClr val="a1b4b7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dt" idx="10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ftr" idx="11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sldNum" idx="12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82994-B232-4A1C-8F8C-ECCBEC5A6056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8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8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0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1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92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93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4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CF0B2-A703-4335-A26A-060C710958FC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3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3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40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1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242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243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4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3866D-288F-441F-924F-FC31ADA2D3CB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0F829-AB33-495E-9269-D2D2F8762D1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2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3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4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28AC0-EF70-47B9-AEA8-FE3F818198F7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373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374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01c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09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1b4b7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1b4b7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1b4b7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D5B89-FD3A-4A9D-ADA9-7EDC0EB9F758}" type="slidenum">
              <a:rPr b="0" lang="en-US" sz="1000" spc="-1" strike="noStrike">
                <a:solidFill>
                  <a:srgbClr val="a1b4b7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229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15.wmf"/><Relationship Id="rId8" Type="http://schemas.openxmlformats.org/officeDocument/2006/relationships/audio" Target="file:///tmp/home/.config/libreoffice/4/user/gallery/chimes.wav" TargetMode="External"/><Relationship Id="rId9" Type="http://schemas.microsoft.com/office/2007/relationships/media" Target="file:///tmp/home/.config/libreoffice/4/user/gallery/chimes.wav" TargetMode="External"/><Relationship Id="rId10" Type="http://schemas.openxmlformats.org/officeDocument/2006/relationships/image" Target="../media/image20.png"/><Relationship Id="rId11" Type="http://schemas.openxmlformats.org/officeDocument/2006/relationships/image" Target="../media/image21.jpeg"/><Relationship Id="rId12" Type="http://schemas.openxmlformats.org/officeDocument/2006/relationships/image" Target="../media/image22.gif"/><Relationship Id="rId13" Type="http://schemas.openxmlformats.org/officeDocument/2006/relationships/audio" Target="../media/explode.wav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0" name="Title 1" descr=""/>
          <p:cNvPicPr/>
          <p:nvPr/>
        </p:nvPicPr>
        <p:blipFill>
          <a:blip r:embed="rId2"/>
          <a:stretch/>
        </p:blipFill>
        <p:spPr>
          <a:xfrm>
            <a:off x="1365120" y="49320"/>
            <a:ext cx="6883560" cy="219384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4" descr="C:\Documents and Settings\student3\Local Settings\Temporary Internet Files\Content.IE5\RUB1164J\MP900289575[2].jpg"/>
          <p:cNvPicPr/>
          <p:nvPr/>
        </p:nvPicPr>
        <p:blipFill>
          <a:blip r:embed="rId3"/>
          <a:stretch/>
        </p:blipFill>
        <p:spPr>
          <a:xfrm rot="19876200">
            <a:off x="6857640" y="1828440"/>
            <a:ext cx="1665360" cy="2077920"/>
          </a:xfrm>
          <a:prstGeom prst="rect">
            <a:avLst/>
          </a:prstGeom>
          <a:ln w="0">
            <a:noFill/>
          </a:ln>
        </p:spPr>
      </p:pic>
      <p:pic>
        <p:nvPicPr>
          <p:cNvPr id="1112" name="" descr=""/>
          <p:cNvPicPr/>
          <p:nvPr/>
        </p:nvPicPr>
        <p:blipFill>
          <a:blip r:embed="rId4"/>
          <a:stretch/>
        </p:blipFill>
        <p:spPr>
          <a:xfrm rot="1073400">
            <a:off x="1066680" y="259092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1113" name="" descr=""/>
          <p:cNvPicPr/>
          <p:nvPr/>
        </p:nvPicPr>
        <p:blipFill>
          <a:blip r:embed="rId5"/>
          <a:stretch/>
        </p:blipFill>
        <p:spPr>
          <a:xfrm>
            <a:off x="762120" y="5029200"/>
            <a:ext cx="1827000" cy="1504800"/>
          </a:xfrm>
          <a:prstGeom prst="rect">
            <a:avLst/>
          </a:prstGeom>
          <a:ln w="0">
            <a:noFill/>
          </a:ln>
        </p:spPr>
      </p:pic>
      <p:sp>
        <p:nvSpPr>
          <p:cNvPr id="1114" name=""/>
          <p:cNvSpPr/>
          <p:nvPr/>
        </p:nvSpPr>
        <p:spPr>
          <a:xfrm>
            <a:off x="3416760" y="2779560"/>
            <a:ext cx="228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: Michele Cochra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9.11193E-006 C 0.03542 -0.08835 0.07084 -0.17669 0.11302 -0.16999 C 0.15521 -0.16328 0.21112 0.03815 0.25365 0.04047 C 0.29618 0.04278 0.32848 -0.15727 0.36806 -0.15657 C 0.40764 -0.15588 0.44618 0.04301 0.49132 0.0444 C 0.53646 0.04579 0.61198 -0.11726 0.63907 -0.14871 C 0.66615 -0.18016 0.6599 -0.16259 0.65365 -0.14478 E">
                                      <p:cBhvr>
                                        <p:cTn id="6" dur="2000" fill="hold"/>
                                        <p:tgtEl>
                                          <p:spTgt spid="1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What is energy?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116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ency FB"/>
              </a:rPr>
              <a:t>Energy is the ability to do work or cause chang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ency FB"/>
              </a:rPr>
              <a:t>It can take two forms kinetic or potential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newsflash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4648320" cy="55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radley Hand ITC"/>
              </a:rPr>
              <a:t>Potential &amp; Kinetic</a:t>
            </a:r>
            <a:endParaRPr b="0" lang="en-US" sz="3200" spc="-1" strike="noStrike">
              <a:solidFill>
                <a:srgbClr val="08b7bf"/>
              </a:solidFill>
              <a:latin typeface="Calibri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5257800" y="1143000"/>
            <a:ext cx="3124080" cy="3276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rte"/>
              </a:rPr>
              <a:t>The apple has the most potential energy at its highest point because it has the most gravitational potential energy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19" name="Picture 2" descr="C:\Documents and Settings\student3\Local Settings\Temporary Internet Files\Content.IE5\RUB1164J\MM900041044[1].gif"/>
          <p:cNvPicPr/>
          <p:nvPr/>
        </p:nvPicPr>
        <p:blipFill>
          <a:blip r:embed="rId1"/>
          <a:stretch/>
        </p:blipFill>
        <p:spPr>
          <a:xfrm>
            <a:off x="1447920" y="1981080"/>
            <a:ext cx="533160" cy="400320"/>
          </a:xfrm>
          <a:prstGeom prst="rect">
            <a:avLst/>
          </a:prstGeom>
          <a:ln w="0">
            <a:noFill/>
          </a:ln>
        </p:spPr>
      </p:pic>
      <p:sp>
        <p:nvSpPr>
          <p:cNvPr id="1120" name="Left Arrow 8"/>
          <p:cNvSpPr/>
          <p:nvPr/>
        </p:nvSpPr>
        <p:spPr>
          <a:xfrm>
            <a:off x="2666880" y="1752480"/>
            <a:ext cx="1752840" cy="914400"/>
          </a:xfrm>
          <a:prstGeom prst="leftArrow">
            <a:avLst>
              <a:gd name="adj1" fmla="val 50000"/>
              <a:gd name="adj2" fmla="val 50009"/>
            </a:avLst>
          </a:prstGeom>
          <a:solidFill>
            <a:srgbClr val="00b0f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Bradley Hand ITC"/>
              </a:rPr>
              <a:t>Most  Potential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1" name="Left Arrow 6"/>
          <p:cNvSpPr/>
          <p:nvPr/>
        </p:nvSpPr>
        <p:spPr>
          <a:xfrm>
            <a:off x="2743200" y="5105520"/>
            <a:ext cx="1752480" cy="914400"/>
          </a:xfrm>
          <a:prstGeom prst="leftArrow">
            <a:avLst>
              <a:gd name="adj1" fmla="val 50000"/>
              <a:gd name="adj2" fmla="val 49998"/>
            </a:avLst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adley Hand ITC"/>
              </a:rPr>
              <a:t>Most  Kinetic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2" name="Left Arrow 7"/>
          <p:cNvSpPr/>
          <p:nvPr/>
        </p:nvSpPr>
        <p:spPr>
          <a:xfrm>
            <a:off x="2666880" y="3429000"/>
            <a:ext cx="1828800" cy="838080"/>
          </a:xfrm>
          <a:prstGeom prst="leftArrow">
            <a:avLst>
              <a:gd name="adj1" fmla="val 50000"/>
              <a:gd name="adj2" fmla="val 50007"/>
            </a:avLst>
          </a:prstGeom>
          <a:solidFill>
            <a:srgbClr val="7030a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adley Hand ITC"/>
              </a:rPr>
              <a:t>Both evenly distributed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3" name=""/>
          <p:cNvSpPr/>
          <p:nvPr/>
        </p:nvSpPr>
        <p:spPr>
          <a:xfrm>
            <a:off x="5257800" y="4495680"/>
            <a:ext cx="3292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pple has the most Kinetic energy </a:t>
            </a:r>
            <a:r>
              <a:rPr b="0" lang="en-US" sz="2800" spc="-1" strike="noStrike">
                <a:solidFill>
                  <a:srgbClr val="009dd9"/>
                </a:solidFill>
                <a:latin typeface="Arial"/>
              </a:rPr>
              <a:t>righ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befo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hits the ground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heel spokes="3"/>
    <p:sndAc>
      <p:stSnd>
        <p:snd r:embed="rId2" name="push.wav"/>
      </p:stSnd>
    </p:sndAc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17 0.04857 L 0.00417 0.5148 E">
                                      <p:cBhvr>
                                        <p:cTn id="22" dur="2000" fill="hold"/>
                                        <p:tgtEl>
                                          <p:spTgt spid="1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2000"/>
                                        <p:tgtEl>
                                          <p:spTgt spid="1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20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2000"/>
                                        <p:tgtEl>
                                          <p:spTgt spid="1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20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ypes of Energ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Bradley Hand ITC"/>
              </a:rPr>
              <a:t>Potentia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47960" y="182844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Bradley Hand ITC"/>
              </a:rPr>
              <a:t>Kinetic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7" name=""/>
          <p:cNvSpPr txBox="1"/>
          <p:nvPr/>
        </p:nvSpPr>
        <p:spPr>
          <a:xfrm>
            <a:off x="456840" y="2514240"/>
            <a:ext cx="4040280" cy="38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radley Hand ITC"/>
              </a:rPr>
              <a:t>Chemical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radley Hand ITC"/>
              </a:rPr>
              <a:t>Mechanical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radley Hand ITC"/>
              </a:rPr>
              <a:t>Elastic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8" name=""/>
          <p:cNvSpPr txBox="1"/>
          <p:nvPr/>
        </p:nvSpPr>
        <p:spPr>
          <a:xfrm>
            <a:off x="4571640" y="2514240"/>
            <a:ext cx="4041720" cy="38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radley Hand ITC"/>
              </a:rPr>
              <a:t>Sound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radley Hand ITC"/>
              </a:rPr>
              <a:t>Thermal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radley Hand ITC"/>
              </a:rPr>
              <a:t>Electrical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radley Hand ITC"/>
              </a:rPr>
              <a:t>Mechanical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29" name="Picture 2" descr="C:\Documents and Settings\student3\Local Settings\Temporary Internet Files\Content.IE5\IDNBX0LP\MC900064950[1].wmf"/>
          <p:cNvPicPr/>
          <p:nvPr/>
        </p:nvPicPr>
        <p:blipFill>
          <a:blip r:embed="rId2"/>
          <a:stretch/>
        </p:blipFill>
        <p:spPr>
          <a:xfrm>
            <a:off x="9518760" y="2367000"/>
            <a:ext cx="95040" cy="8424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3" descr="C:\Documents and Settings\student3\Local Settings\Temporary Internet Files\Content.IE5\HAPT2QAI\MP900438774[1].jpg"/>
          <p:cNvPicPr/>
          <p:nvPr/>
        </p:nvPicPr>
        <p:blipFill>
          <a:blip r:embed="rId3"/>
          <a:stretch/>
        </p:blipFill>
        <p:spPr>
          <a:xfrm>
            <a:off x="6324480" y="3581280"/>
            <a:ext cx="838440" cy="51120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4" descr="C:\Documents and Settings\student3\Local Settings\Temporary Internet Files\Content.IE5\TZVPQQH3\MC900197535[1].wmf"/>
          <p:cNvPicPr/>
          <p:nvPr/>
        </p:nvPicPr>
        <p:blipFill>
          <a:blip r:embed="rId4"/>
          <a:stretch/>
        </p:blipFill>
        <p:spPr>
          <a:xfrm>
            <a:off x="6477120" y="4495680"/>
            <a:ext cx="761760" cy="77148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5" descr="C:\Documents and Settings\student3\Local Settings\Temporary Internet Files\Content.IE5\ZBEL24G9\MC900083545[1].wmf"/>
          <p:cNvPicPr/>
          <p:nvPr/>
        </p:nvPicPr>
        <p:blipFill>
          <a:blip r:embed="rId5"/>
          <a:stretch/>
        </p:blipFill>
        <p:spPr>
          <a:xfrm rot="21090600">
            <a:off x="6687720" y="5705280"/>
            <a:ext cx="960480" cy="86508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6" descr="C:\Documents and Settings\student3\Local Settings\Temporary Internet Files\Content.IE5\9AHSM993\MC900311156[1].wmf"/>
          <p:cNvPicPr/>
          <p:nvPr/>
        </p:nvPicPr>
        <p:blipFill>
          <a:blip r:embed="rId6"/>
          <a:stretch/>
        </p:blipFill>
        <p:spPr>
          <a:xfrm>
            <a:off x="2362320" y="4114800"/>
            <a:ext cx="533160" cy="74304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2" descr="C:\Documents and Settings\student3\Local Settings\Temporary Internet Files\Content.IE5\NKV9NTN9\MC900064950[1].wmf"/>
          <p:cNvPicPr/>
          <p:nvPr/>
        </p:nvPicPr>
        <p:blipFill>
          <a:blip r:embed="rId7"/>
          <a:stretch/>
        </p:blipFill>
        <p:spPr>
          <a:xfrm>
            <a:off x="6553080" y="2819520"/>
            <a:ext cx="584280" cy="514080"/>
          </a:xfrm>
          <a:prstGeom prst="rect">
            <a:avLst/>
          </a:prstGeom>
          <a:ln w="0">
            <a:noFill/>
          </a:ln>
        </p:spPr>
      </p:pic>
      <p:pic>
        <p:nvPicPr>
          <p:cNvPr id="1135" name="" descr="">
            <a:hlinkClick r:id="" action="ppaction://media"/>
          </p:cNvPr>
          <p:cNvPicPr/>
          <p:nvPr>
            <a:audioFile r:link="rId8"/>
            <p:extLst>
              <p:ext uri="{DAA4B4D4-6D71-4841-9C94-3DE7FCFB9230}">
                <p14:media r:link="rId9"/>
              </p:ext>
            </p:extLst>
          </p:nvPr>
        </p:nvPicPr>
        <p:blipFill>
          <a:blip r:embed="rId10"/>
          <a:stretch>
            <a:fillRect/>
          </a:stretch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3" descr="C:\Documents and Settings\student3\Local Settings\Temporary Internet Files\Content.IE5\GXF1Z2Q0\MP900289575[1].jpg"/>
          <p:cNvPicPr/>
          <p:nvPr/>
        </p:nvPicPr>
        <p:blipFill>
          <a:blip r:embed="rId11"/>
          <a:stretch/>
        </p:blipFill>
        <p:spPr>
          <a:xfrm>
            <a:off x="2286000" y="5334120"/>
            <a:ext cx="685800" cy="85572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17" descr="battery.gif"/>
          <p:cNvPicPr/>
          <p:nvPr/>
        </p:nvPicPr>
        <p:blipFill>
          <a:blip r:embed="rId12"/>
          <a:stretch/>
        </p:blipFill>
        <p:spPr>
          <a:xfrm rot="1135200">
            <a:off x="2209320" y="2895120"/>
            <a:ext cx="876600" cy="8766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  <p:sndAc>
      <p:stSnd>
        <p:snd r:embed="rId13" name="explode.wav"/>
      </p:stSnd>
    </p:sndAc>
  </p:transition>
  <p:timing>
    <p:tnLst>
      <p:par>
        <p:cTn id="42" dur="indefinite" restart="never" nodeType="tmRoot">
          <p:childTnLst>
            <p:seq>
              <p:cTn id="43" restart="whenNotActive" nodeType="interactiveSeq" fill="hold">
                <p:stCondLst>
                  <p:cond evt="onClick">
                    <p:tgtEl>
                      <p:spTgt spid="1135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1135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1134" fill="hold"/>
                                        <p:tgtEl>
                                          <p:spTgt spid="1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135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21:11:20Z</dcterms:created>
  <dc:creator> </dc:creator>
  <dc:description/>
  <dc:language>en-US</dc:language>
  <cp:lastModifiedBy>Michele Cochran</cp:lastModifiedBy>
  <dcterms:modified xsi:type="dcterms:W3CDTF">2012-04-08T20:13:04Z</dcterms:modified>
  <cp:revision>24</cp:revision>
  <dc:subject/>
  <dc:title>Energy</dc:title>
</cp:coreProperties>
</file>